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2BC4-D9C6-4379-B770-A054E8E8A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4C63-8B46-424D-811C-BC1F975FC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4D32-F1B0-4AD1-9BAC-E3847B232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90C2-19AE-41BC-8F00-EAD21147F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C8EE-DF3E-4C5A-915B-2821B9990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8A49-9770-4334-9C1E-F65998FBE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4BC2-6E87-4A9B-BBE3-682CC6546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7E35-988B-4CCC-B44A-DA22ABBF1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D076-9A54-415A-8FDD-6BCF89622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6C64-B59D-48F1-BA66-94FBB55BF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1D7C-3CE4-4DA0-AB09-A17A6D2C6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10CA-9547-42E9-8D88-6821A2D9E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6860D-44E8-4A12-9EE0-33ECE596B11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51280" y="1052280"/>
            <a:ext cx="4572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" name="Rectangle 169"/>
          <p:cNvSpPr/>
          <p:nvPr/>
        </p:nvSpPr>
        <p:spPr>
          <a:xfrm>
            <a:off x="4932360" y="1844640"/>
            <a:ext cx="345744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Asus</cp:lastModifiedBy>
  <dcterms:modified xsi:type="dcterms:W3CDTF">2018-11-24T10:06:32Z</dcterms:modified>
  <cp:revision>877</cp:revision>
  <dc:subject/>
  <dc:title>Diapositiva 1</dc:title>
</cp:coreProperties>
</file>